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METLCLNG.WAV" ContentType="audio/x-wav"/>
  <Override PartName="/ppt/media/j0095972.wav" ContentType="audio/x-wav"/>
  <Override PartName="/ppt/media/image11.wmf" ContentType="image/x-wmf"/>
  <Override PartName="/ppt/media/DRIVEBY.WAV" ContentType="audio/x-wav"/>
  <Override PartName="/ppt/media/image17.wmf" ContentType="image/x-wmf"/>
  <Override PartName="/ppt/media/APPLAUSE.WAV" ContentType="audio/x-wav"/>
  <Override PartName="/ppt/media/image9.png" ContentType="image/png"/>
  <Override PartName="/ppt/media/image16.wmf" ContentType="image/x-wmf"/>
  <Override PartName="/ppt/media/OOGA.WAV" ContentType="audio/x-wav"/>
  <Override PartName="/ppt/media/image3.wmf" ContentType="image/x-wmf"/>
  <Override PartName="/ppt/media/BUZZ2.WAV" ContentType="audio/x-wav"/>
  <Override PartName="/ppt/media/image5.wmf" ContentType="image/x-wmf"/>
  <Override PartName="/ppt/media/PROJCTOR.WAV" ContentType="audio/x-wav"/>
  <Override PartName="/ppt/media/EXPLODE.WAV" ContentType="audio/x-wav"/>
  <Override PartName="/ppt/media/image4.wmf" ContentType="image/x-wmf"/>
  <Override PartName="/ppt/media/image2.wmf" ContentType="image/x-wmf"/>
  <Override PartName="/ppt/media/image18.wmf" ContentType="image/x-wmf"/>
  <Override PartName="/ppt/media/CHIMES.WAV" ContentType="audio/x-wav"/>
  <Override PartName="/ppt/media/image15.wmf" ContentType="image/x-wmf"/>
  <Override PartName="/ppt/media/GLASS.WAV" ContentType="audio/x-wav"/>
  <Override PartName="/ppt/media/image7.wmf" ContentType="image/x-wmf"/>
  <Override PartName="/ppt/media/DRUMROLL.WAV" ContentType="audio/x-wav"/>
  <Override PartName="/ppt/media/WHOOSH.WAV" ContentType="audio/x-wav"/>
  <Override PartName="/ppt/media/image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0.wmf" ContentType="image/x-wmf"/>
  <Override PartName="/ppt/media/CLAP.WAV" ContentType="audio/x-wav"/>
  <Override PartName="/ppt/media/j0074841.wav" ContentType="audio/x-wav"/>
  <Override PartName="/ppt/media/image12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5AA2-E937-4C6E-80B8-A97A01AF4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E1A3-55F5-441F-88A5-043ACEB7D7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402760" cy="253800"/>
          </a:xfrm>
          <a:custGeom>
            <a:avLst/>
            <a:gdLst>
              <a:gd name="textAreaLeft" fmla="*/ -360 w 8402760"/>
              <a:gd name="textAreaRight" fmla="*/ 8402760 w 84027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885348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074201.mid" descr=""/>
          <p:cNvPicPr/>
          <p:nvPr/>
        </p:nvPicPr>
        <p:blipFill>
          <a:blip r:embed="rId2"/>
          <a:stretch/>
        </p:blipFill>
        <p:spPr>
          <a:xfrm>
            <a:off x="412920" y="378000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4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19"/>
          <p:cNvSpPr/>
          <p:nvPr/>
        </p:nvSpPr>
        <p:spPr>
          <a:xfrm flipH="1">
            <a:off x="560520" y="2717640"/>
            <a:ext cx="8294400" cy="233640"/>
          </a:xfrm>
          <a:custGeom>
            <a:avLst/>
            <a:gdLst>
              <a:gd name="textAreaLeft" fmla="*/ 360 w 8294400"/>
              <a:gd name="textAreaRight" fmla="*/ 8295120 w 82944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22"/>
          <p:cNvSpPr/>
          <p:nvPr/>
        </p:nvSpPr>
        <p:spPr>
          <a:xfrm>
            <a:off x="884232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8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Text Box 34"/>
          <p:cNvSpPr/>
          <p:nvPr/>
        </p:nvSpPr>
        <p:spPr>
          <a:xfrm>
            <a:off x="1147680" y="6394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Capital Community Colle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png"/><Relationship Id="rId3" Type="http://schemas.openxmlformats.org/officeDocument/2006/relationships/audio" Target="../media/METLCLNG.WAV"/><Relationship Id="rId4" Type="http://schemas.openxmlformats.org/officeDocument/2006/relationships/audio" Target="../media/j0095972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BUZZ2.WAV"/><Relationship Id="rId7" Type="http://schemas.openxmlformats.org/officeDocument/2006/relationships/audio" Target="../media/DRUMROLL.WAV"/><Relationship Id="rId8" Type="http://schemas.openxmlformats.org/officeDocument/2006/relationships/audio" Target="../media/OOG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audio" Target="../media/j0074841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58608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nglish Gramma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379600" y="3373560"/>
            <a:ext cx="5950080" cy="1752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Parts of Speech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146240" y="369720"/>
            <a:ext cx="76388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868686">
                      <a:alpha val="75000"/>
                    </a:srgbClr>
                  </a:outerShdw>
                </a:effectLst>
                <a:latin typeface="Arial Black"/>
              </a:rPr>
              <a:t>The Adverb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868686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865080" y="1922400"/>
            <a:ext cx="386244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s or desc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rb, an adjectiv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nother adver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5203800" y="1922400"/>
            <a:ext cx="372276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th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7"/>
          <p:cNvSpPr/>
          <p:nvPr/>
        </p:nvSpPr>
        <p:spPr>
          <a:xfrm rot="21294600">
            <a:off x="5154120" y="3073320"/>
            <a:ext cx="2811600" cy="1403280"/>
          </a:xfrm>
          <a:prstGeom prst="wedgeEllipseCallout">
            <a:avLst>
              <a:gd name="adj1" fmla="val -92027"/>
              <a:gd name="adj2" fmla="val 496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1411200" y="3722760"/>
            <a:ext cx="2784600" cy="71604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r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411200" y="4438800"/>
            <a:ext cx="2998800" cy="6411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lef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0"/>
          <p:cNvSpPr/>
          <p:nvPr/>
        </p:nvSpPr>
        <p:spPr>
          <a:xfrm rot="564000">
            <a:off x="4361040" y="4109760"/>
            <a:ext cx="3570120" cy="969840"/>
          </a:xfrm>
          <a:prstGeom prst="wedgeEllipseCallout">
            <a:avLst>
              <a:gd name="adj1" fmla="val -47865"/>
              <a:gd name="adj2" fmla="val 45870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1146240" y="5079960"/>
            <a:ext cx="2698560" cy="74628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12"/>
          <p:cNvSpPr/>
          <p:nvPr/>
        </p:nvSpPr>
        <p:spPr>
          <a:xfrm rot="21155400">
            <a:off x="3844800" y="5079960"/>
            <a:ext cx="3160800" cy="746280"/>
          </a:xfrm>
          <a:prstGeom prst="wedgeEllipseCallout">
            <a:avLst>
              <a:gd name="adj1" fmla="val -53490"/>
              <a:gd name="adj2" fmla="val -16421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865080" y="5826240"/>
            <a:ext cx="3862440" cy="10317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o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4727520" y="5826240"/>
            <a:ext cx="4416480" cy="1031760"/>
          </a:xfrm>
          <a:prstGeom prst="wedgeEllipseCallout">
            <a:avLst>
              <a:gd name="adj1" fmla="val -65421"/>
              <a:gd name="adj2" fmla="val 2384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degree or  how mu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15"/>
          <p:cNvGraphicFramePr/>
          <p:nvPr/>
        </p:nvGraphicFramePr>
        <p:xfrm>
          <a:off x="7531200" y="3324240"/>
          <a:ext cx="139536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3324240"/>
                    <a:ext cx="13953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53352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nds of Adverb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57320" y="1949400"/>
            <a:ext cx="3133800" cy="1295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ro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e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WordArt 5"/>
          <p:cNvSpPr txBox="1"/>
          <p:nvPr/>
        </p:nvSpPr>
        <p:spPr>
          <a:xfrm rot="21007200">
            <a:off x="1371240" y="327636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6" name="WordArt 6"/>
          <p:cNvSpPr txBox="1"/>
          <p:nvPr/>
        </p:nvSpPr>
        <p:spPr>
          <a:xfrm rot="462600">
            <a:off x="2285640" y="3809520"/>
            <a:ext cx="131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15258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When?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15258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8"/>
          <p:cNvSpPr txBox="1"/>
          <p:nvPr/>
        </p:nvSpPr>
        <p:spPr>
          <a:xfrm rot="20831400">
            <a:off x="2286000" y="5486040"/>
            <a:ext cx="1847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ere?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58" name="Object 16"/>
          <p:cNvGraphicFramePr/>
          <p:nvPr/>
        </p:nvGraphicFramePr>
        <p:xfrm>
          <a:off x="7696080" y="4238640"/>
          <a:ext cx="1447920" cy="23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238640"/>
                    <a:ext cx="144792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AutoShape 17"/>
          <p:cNvSpPr/>
          <p:nvPr/>
        </p:nvSpPr>
        <p:spPr>
          <a:xfrm>
            <a:off x="8148600" y="6477120"/>
            <a:ext cx="750960" cy="380880"/>
          </a:xfrm>
          <a:prstGeom prst="flowChartInternalStorage">
            <a:avLst/>
          </a:prstGeom>
          <a:solidFill>
            <a:srgbClr val="9d2f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WordArt 19"/>
          <p:cNvSpPr txBox="1"/>
          <p:nvPr/>
        </p:nvSpPr>
        <p:spPr>
          <a:xfrm>
            <a:off x="1752480" y="5095800"/>
            <a:ext cx="2095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ow often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4786200" y="2482920"/>
            <a:ext cx="39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you break your le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 rot="21569400">
            <a:off x="3454560" y="378756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oes your plane leave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3848040" y="4734000"/>
            <a:ext cx="23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do you ru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4191120" y="57070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id you put the mouse tra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1295280" y="182520"/>
            <a:ext cx="6705720" cy="14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Preposition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295280" y="2362320"/>
            <a:ext cx="7315200" cy="19047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pos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roduces a noun or prono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 phrase or clause functioning in the sent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noun.  The word or word group that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 introduces is it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990720" y="4267080"/>
            <a:ext cx="8153280" cy="259092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received a postcar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rom Bobb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el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out his tr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5562720" y="441972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20219" y="12689"/>
                </a:moveTo>
                <a:cubicBezTo>
                  <a:pt x="20344" y="12067"/>
                  <a:pt x="20407" y="11434"/>
                  <a:pt x="20407" y="10800"/>
                </a:cubicBezTo>
                <a:cubicBezTo>
                  <a:pt x="20407" y="5494"/>
                  <a:pt x="16105" y="1193"/>
                  <a:pt x="10800" y="1193"/>
                </a:cubicBezTo>
                <a:cubicBezTo>
                  <a:pt x="5494" y="1193"/>
                  <a:pt x="1193" y="5494"/>
                  <a:pt x="1193" y="10800"/>
                </a:cubicBezTo>
                <a:cubicBezTo>
                  <a:pt x="1192" y="13001"/>
                  <a:pt x="1948" y="15135"/>
                  <a:pt x="3334" y="16846"/>
                </a:cubicBezTo>
                <a:lnTo>
                  <a:pt x="2406" y="17596"/>
                </a:lnTo>
                <a:cubicBezTo>
                  <a:pt x="849" y="15673"/>
                  <a:pt x="0" y="1327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599" y="11513"/>
                  <a:pt x="21529" y="12225"/>
                  <a:pt x="21388" y="12924"/>
                </a:cubicBezTo>
                <a:lnTo>
                  <a:pt x="24036" y="13455"/>
                </a:lnTo>
                <a:lnTo>
                  <a:pt x="20155" y="16039"/>
                </a:lnTo>
                <a:lnTo>
                  <a:pt x="17572" y="12158"/>
                </a:lnTo>
                <a:lnTo>
                  <a:pt x="20219" y="12689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276720" y="5562720"/>
            <a:ext cx="1676160" cy="304560"/>
          </a:xfrm>
          <a:custGeom>
            <a:avLst/>
            <a:gdLst>
              <a:gd name="textAreaLeft" fmla="*/ 245160 w 1676160"/>
              <a:gd name="textAreaRight" fmla="*/ 1431000 w 167616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cubicBezTo>
                  <a:pt x="5399" y="11976"/>
                  <a:pt x="5784" y="13121"/>
                  <a:pt x="6494" y="14059"/>
                </a:cubicBezTo>
                <a:lnTo>
                  <a:pt x="2189" y="17318"/>
                </a:lnTo>
                <a:cubicBezTo>
                  <a:pt x="768" y="15442"/>
                  <a:pt x="0" y="1315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 rot="19863000">
            <a:off x="5264280" y="5476680"/>
            <a:ext cx="1171440" cy="777600"/>
          </a:xfrm>
          <a:custGeom>
            <a:avLst/>
            <a:gdLst>
              <a:gd name="textAreaLeft" fmla="*/ 171360 w 1171440"/>
              <a:gd name="textAreaRight" fmla="*/ 1000080 w 1171440"/>
              <a:gd name="textAreaTop" fmla="*/ 113760 h 777600"/>
              <a:gd name="textAreaBottom" fmla="*/ 663840 h 777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387" y="5399"/>
                  <a:pt x="8031" y="5953"/>
                  <a:pt x="7022" y="6941"/>
                </a:cubicBezTo>
                <a:lnTo>
                  <a:pt x="3244" y="3082"/>
                </a:lnTo>
                <a:cubicBezTo>
                  <a:pt x="5263" y="1106"/>
                  <a:pt x="7975" y="-1"/>
                  <a:pt x="10800" y="-1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Oval 2"/>
          <p:cNvSpPr/>
          <p:nvPr/>
        </p:nvSpPr>
        <p:spPr>
          <a:xfrm>
            <a:off x="914400" y="304920"/>
            <a:ext cx="792468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positio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and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o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HNDSHAK3"/>
          <p:cNvPicPr/>
          <p:nvPr/>
        </p:nvPicPr>
        <p:blipFill>
          <a:blip r:embed="rId1"/>
          <a:stretch/>
        </p:blipFill>
        <p:spPr>
          <a:xfrm>
            <a:off x="2743200" y="2438280"/>
            <a:ext cx="3056040" cy="990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 rot="20994000">
            <a:off x="1371240" y="2666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 rot="20566800">
            <a:off x="4884480" y="2274480"/>
            <a:ext cx="197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8"/>
          <p:cNvSpPr/>
          <p:nvPr/>
        </p:nvSpPr>
        <p:spPr>
          <a:xfrm rot="532800">
            <a:off x="5454720" y="2776320"/>
            <a:ext cx="1403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AutoShape 19"/>
          <p:cNvSpPr/>
          <p:nvPr/>
        </p:nvSpPr>
        <p:spPr>
          <a:xfrm rot="21465000">
            <a:off x="6324120" y="2441160"/>
            <a:ext cx="1067040" cy="762120"/>
          </a:xfrm>
          <a:custGeom>
            <a:avLst/>
            <a:gdLst>
              <a:gd name="textAreaLeft" fmla="*/ 0 w 1067040"/>
              <a:gd name="textAreaRight" fmla="*/ 385200 w 10670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7543800" y="2274840"/>
            <a:ext cx="1295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5105520" y="3657600"/>
            <a:ext cx="91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prepos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23"/>
          <p:cNvSpPr/>
          <p:nvPr/>
        </p:nvSpPr>
        <p:spPr>
          <a:xfrm>
            <a:off x="5638680" y="3813120"/>
            <a:ext cx="16056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6172200" y="3581280"/>
            <a:ext cx="533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25"/>
          <p:cNvSpPr/>
          <p:nvPr/>
        </p:nvSpPr>
        <p:spPr>
          <a:xfrm>
            <a:off x="6324480" y="3813120"/>
            <a:ext cx="15264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3581280" y="5107320"/>
            <a:ext cx="693720" cy="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4884840" y="510804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29"/>
          <p:cNvSpPr/>
          <p:nvPr/>
        </p:nvSpPr>
        <p:spPr>
          <a:xfrm>
            <a:off x="6172200" y="4267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Oval 30"/>
          <p:cNvSpPr/>
          <p:nvPr/>
        </p:nvSpPr>
        <p:spPr>
          <a:xfrm>
            <a:off x="3352680" y="4191120"/>
            <a:ext cx="2446560" cy="609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n have more th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e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3352680" y="5181480"/>
            <a:ext cx="4038840" cy="60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can have mod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1371600" y="365760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press those lea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1066680" y="4572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telegr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Ralp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rought good n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1066680" y="5791320"/>
            <a:ext cx="7772400" cy="685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happen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u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l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in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33"/>
          <p:cNvSpPr/>
          <p:nvPr/>
        </p:nvSpPr>
        <p:spPr>
          <a:xfrm>
            <a:off x="5943600" y="6400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197000" y="158760"/>
            <a:ext cx="7143840" cy="1428840"/>
          </a:xfrm>
          <a:prstGeom prst="rect">
            <a:avLst/>
          </a:prstGeom>
          <a:solidFill>
            <a:srgbClr val="218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me Common Preposi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197000" y="2027160"/>
            <a:ext cx="17571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ain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102120" y="2001960"/>
            <a:ext cx="180648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213520" y="2001960"/>
            <a:ext cx="19047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351560" y="2001960"/>
            <a:ext cx="157500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6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111320" y="208080"/>
            <a:ext cx="8032680" cy="13064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1932"/>
                </a:solidFill>
                <a:latin typeface="Times New Roman"/>
              </a:rPr>
              <a:t>The conjunc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111320" y="2087640"/>
            <a:ext cx="7802640" cy="598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932"/>
                </a:solidFill>
                <a:latin typeface="Times New Roman"/>
              </a:rPr>
              <a:t>A conjunction is</a:t>
            </a: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 a word that joins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or groups of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13" descr="A_ECI070"/>
          <p:cNvPicPr/>
          <p:nvPr/>
        </p:nvPicPr>
        <p:blipFill>
          <a:blip r:embed="rId1"/>
          <a:stretch/>
        </p:blipFill>
        <p:spPr>
          <a:xfrm>
            <a:off x="3454560" y="3260880"/>
            <a:ext cx="2234880" cy="29304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8"/>
          <p:cNvSpPr/>
          <p:nvPr/>
        </p:nvSpPr>
        <p:spPr>
          <a:xfrm rot="19426800">
            <a:off x="2026800" y="3580920"/>
            <a:ext cx="1746360" cy="3621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5689440" y="3429000"/>
            <a:ext cx="1746360" cy="1101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2282760" y="6191280"/>
            <a:ext cx="4751280" cy="6667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1"/>
          <p:cNvSpPr/>
          <p:nvPr/>
        </p:nvSpPr>
        <p:spPr>
          <a:xfrm rot="20755200">
            <a:off x="1306440" y="5054760"/>
            <a:ext cx="262584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ither/o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2"/>
          <p:cNvSpPr/>
          <p:nvPr/>
        </p:nvSpPr>
        <p:spPr>
          <a:xfrm rot="850200">
            <a:off x="5689080" y="4797360"/>
            <a:ext cx="307836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neither/no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5960BE05.WAV" descr=""/>
          <p:cNvPicPr/>
          <p:nvPr/>
        </p:nvPicPr>
        <p:blipFill>
          <a:blip r:embed="rId2"/>
          <a:stretch/>
        </p:blipFill>
        <p:spPr>
          <a:xfrm>
            <a:off x="-4525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TLCL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0959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j0074231.mid" descr=""/>
          <p:cNvPicPr/>
          <p:nvPr/>
        </p:nvPicPr>
        <p:blipFill>
          <a:blip r:embed="rId1"/>
          <a:stretch/>
        </p:blipFill>
        <p:spPr>
          <a:xfrm>
            <a:off x="6616800" y="5129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"/>
          <p:cNvSpPr/>
          <p:nvPr/>
        </p:nvSpPr>
        <p:spPr>
          <a:xfrm>
            <a:off x="1098720" y="195120"/>
            <a:ext cx="6997680" cy="1489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The interjecti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098720" y="2246400"/>
            <a:ext cx="7840440" cy="1182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an exclamatory word that expres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o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7" descr="PPLGP043"/>
          <p:cNvPicPr/>
          <p:nvPr/>
        </p:nvPicPr>
        <p:blipFill>
          <a:blip r:embed="rId2"/>
          <a:stretch/>
        </p:blipFill>
        <p:spPr>
          <a:xfrm>
            <a:off x="1098720" y="3138480"/>
            <a:ext cx="1734840" cy="173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2600280" y="3429000"/>
            <a:ext cx="4824360" cy="5652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ubular"/>
              </a:rPr>
              <a:t>Goodness</a:t>
            </a:r>
            <a:r>
              <a:rPr b="0" lang="en-US" sz="2400" spc="-1" strike="noStrike">
                <a:solidFill>
                  <a:srgbClr val="001932"/>
                </a:solidFill>
                <a:latin typeface="Tubular"/>
              </a:rPr>
              <a:t>! What a cute bab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10" descr="PPLGP090"/>
          <p:cNvPicPr/>
          <p:nvPr/>
        </p:nvPicPr>
        <p:blipFill>
          <a:blip r:embed="rId3"/>
          <a:stretch/>
        </p:blipFill>
        <p:spPr>
          <a:xfrm>
            <a:off x="4621320" y="4237200"/>
            <a:ext cx="4205160" cy="23446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1"/>
          <p:cNvSpPr/>
          <p:nvPr/>
        </p:nvSpPr>
        <p:spPr>
          <a:xfrm>
            <a:off x="1488960" y="5433840"/>
            <a:ext cx="3132360" cy="11480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Wow! Look at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sunse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1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That’s all for now. . 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Impact"/>
              </a:rPr>
              <a:t>More Later</a:t>
            </a:r>
            <a:endParaRPr b="0" lang="en-US" sz="10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ight Parts of Speech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523880" y="2209680"/>
            <a:ext cx="2057400" cy="1219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27"/>
          <p:cNvGrpSpPr/>
          <p:nvPr/>
        </p:nvGrpSpPr>
        <p:grpSpPr>
          <a:xfrm>
            <a:off x="6248520" y="2590920"/>
            <a:ext cx="2743200" cy="1600200"/>
            <a:chOff x="6248520" y="2590920"/>
            <a:chExt cx="2743200" cy="1600200"/>
          </a:xfrm>
        </p:grpSpPr>
        <p:sp>
          <p:nvSpPr>
            <p:cNvPr id="137" name="AutoShape 15"/>
            <p:cNvSpPr/>
            <p:nvPr/>
          </p:nvSpPr>
          <p:spPr>
            <a:xfrm>
              <a:off x="6248520" y="2590920"/>
              <a:ext cx="2743200" cy="1600200"/>
            </a:xfrm>
            <a:prstGeom prst="wedgeEllipseCallout">
              <a:avLst>
                <a:gd name="adj1" fmla="val -133189"/>
                <a:gd name="adj2" fmla="val 1388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16"/>
            <p:cNvSpPr/>
            <p:nvPr/>
          </p:nvSpPr>
          <p:spPr>
            <a:xfrm rot="954600">
              <a:off x="6372720" y="3124080"/>
              <a:ext cx="193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bitha"/>
                </a:rPr>
                <a:t>Pronou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AutoShape 17"/>
          <p:cNvSpPr/>
          <p:nvPr/>
        </p:nvSpPr>
        <p:spPr>
          <a:xfrm>
            <a:off x="1219320" y="3886200"/>
            <a:ext cx="2361960" cy="22860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heatre Antoine"/>
              </a:rPr>
              <a:t>Ad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9"/>
          <p:cNvSpPr/>
          <p:nvPr/>
        </p:nvSpPr>
        <p:spPr>
          <a:xfrm rot="8958000">
            <a:off x="3421800" y="3995280"/>
            <a:ext cx="2079720" cy="1816200"/>
          </a:xfrm>
          <a:prstGeom prst="cloudCallout">
            <a:avLst>
              <a:gd name="adj1" fmla="val -79430"/>
              <a:gd name="adj2" fmla="val 61106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Albertus Extra Bold"/>
              </a:rPr>
              <a:t>Adver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1978200" y="5867280"/>
            <a:ext cx="5727600" cy="762120"/>
          </a:xfrm>
          <a:custGeom>
            <a:avLst/>
            <a:gdLst>
              <a:gd name="textAreaLeft" fmla="*/ 1431720 w 5727600"/>
              <a:gd name="textAreaRight" fmla="*/ 4295880 w 57276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azone BT"/>
              </a:rPr>
              <a:t>Conj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31"/>
          <p:cNvGrpSpPr/>
          <p:nvPr/>
        </p:nvGrpSpPr>
        <p:grpSpPr>
          <a:xfrm>
            <a:off x="5563800" y="3851280"/>
            <a:ext cx="3258360" cy="2740320"/>
            <a:chOff x="5563800" y="3851280"/>
            <a:chExt cx="3258360" cy="2740320"/>
          </a:xfrm>
        </p:grpSpPr>
        <p:sp>
          <p:nvSpPr>
            <p:cNvPr id="143" name="AutoShape 21"/>
            <p:cNvSpPr/>
            <p:nvPr/>
          </p:nvSpPr>
          <p:spPr>
            <a:xfrm rot="1452000">
              <a:off x="5800680" y="4344840"/>
              <a:ext cx="2784600" cy="1752840"/>
            </a:xfrm>
            <a:prstGeom prst="rightArrow">
              <a:avLst>
                <a:gd name="adj1" fmla="val 50000"/>
                <a:gd name="adj2" fmla="val 39716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22"/>
            <p:cNvSpPr/>
            <p:nvPr/>
          </p:nvSpPr>
          <p:spPr>
            <a:xfrm rot="1452000">
              <a:off x="6325560" y="4970880"/>
              <a:ext cx="183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f0303"/>
                  </a:solidFill>
                  <a:latin typeface="Times New Roman"/>
                </a:rPr>
                <a:t>Prepos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28"/>
          <p:cNvGrpSpPr/>
          <p:nvPr/>
        </p:nvGrpSpPr>
        <p:grpSpPr>
          <a:xfrm>
            <a:off x="3048120" y="1981080"/>
            <a:ext cx="3200040" cy="1904760"/>
            <a:chOff x="3048120" y="1981080"/>
            <a:chExt cx="3200040" cy="1904760"/>
          </a:xfrm>
        </p:grpSpPr>
        <p:sp>
          <p:nvSpPr>
            <p:cNvPr id="146" name="AutoShape 25"/>
            <p:cNvSpPr/>
            <p:nvPr/>
          </p:nvSpPr>
          <p:spPr>
            <a:xfrm>
              <a:off x="3048120" y="1981080"/>
              <a:ext cx="3200040" cy="19047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26"/>
            <p:cNvSpPr/>
            <p:nvPr/>
          </p:nvSpPr>
          <p:spPr>
            <a:xfrm rot="20247000">
              <a:off x="3762360" y="2550240"/>
              <a:ext cx="15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eletype"/>
                </a:rPr>
                <a:t>Verb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Oval 35"/>
          <p:cNvSpPr/>
          <p:nvPr/>
        </p:nvSpPr>
        <p:spPr>
          <a:xfrm>
            <a:off x="990720" y="3124080"/>
            <a:ext cx="1805040" cy="12207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j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ZZ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OOG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2440" y="418680"/>
            <a:ext cx="593892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ord that nam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227484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ers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3529080" y="3344760"/>
          <a:ext cx="3997080" cy="10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9080" y="3344760"/>
                    <a:ext cx="3997080" cy="1074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5486400" y="4419720"/>
          <a:ext cx="16686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419720"/>
                    <a:ext cx="1668600" cy="1143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155" name="Picture 7" descr="AMIDEA"/>
          <p:cNvPicPr/>
          <p:nvPr/>
        </p:nvPicPr>
        <p:blipFill>
          <a:blip r:embed="rId5"/>
          <a:stretch/>
        </p:blipFill>
        <p:spPr>
          <a:xfrm>
            <a:off x="5873760" y="5627520"/>
            <a:ext cx="873000" cy="10782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156" name="Group 51"/>
          <p:cNvGrpSpPr/>
          <p:nvPr/>
        </p:nvGrpSpPr>
        <p:grpSpPr>
          <a:xfrm>
            <a:off x="3886200" y="2057400"/>
            <a:ext cx="2743200" cy="992160"/>
            <a:chOff x="3886200" y="2057400"/>
            <a:chExt cx="2743200" cy="992160"/>
          </a:xfrm>
        </p:grpSpPr>
        <p:sp>
          <p:nvSpPr>
            <p:cNvPr id="157" name="Freeform 12"/>
            <p:cNvSpPr/>
            <p:nvPr/>
          </p:nvSpPr>
          <p:spPr>
            <a:xfrm>
              <a:off x="4175280" y="2527200"/>
              <a:ext cx="952200" cy="246240"/>
            </a:xfrm>
            <a:custGeom>
              <a:avLst/>
              <a:gdLst/>
              <a:ahLst/>
              <a:rect l="l" t="t" r="r" b="b"/>
              <a:pathLst>
                <a:path w="6000" h="4181">
                  <a:moveTo>
                    <a:pt x="304" y="734"/>
                  </a:moveTo>
                  <a:lnTo>
                    <a:pt x="913" y="367"/>
                  </a:lnTo>
                  <a:lnTo>
                    <a:pt x="1821" y="0"/>
                  </a:lnTo>
                  <a:lnTo>
                    <a:pt x="4027" y="221"/>
                  </a:lnTo>
                  <a:lnTo>
                    <a:pt x="5319" y="734"/>
                  </a:lnTo>
                  <a:lnTo>
                    <a:pt x="6000" y="955"/>
                  </a:lnTo>
                  <a:lnTo>
                    <a:pt x="4254" y="1615"/>
                  </a:lnTo>
                  <a:lnTo>
                    <a:pt x="4027" y="3010"/>
                  </a:lnTo>
                  <a:lnTo>
                    <a:pt x="3874" y="3816"/>
                  </a:lnTo>
                  <a:lnTo>
                    <a:pt x="2962" y="4181"/>
                  </a:lnTo>
                  <a:lnTo>
                    <a:pt x="1595" y="4108"/>
                  </a:lnTo>
                  <a:lnTo>
                    <a:pt x="837" y="3890"/>
                  </a:lnTo>
                  <a:lnTo>
                    <a:pt x="1138" y="2862"/>
                  </a:lnTo>
                  <a:lnTo>
                    <a:pt x="1520" y="1100"/>
                  </a:lnTo>
                  <a:lnTo>
                    <a:pt x="0" y="1100"/>
                  </a:lnTo>
                  <a:lnTo>
                    <a:pt x="304" y="734"/>
                  </a:lnTo>
                  <a:close/>
                </a:path>
              </a:pathLst>
            </a:custGeom>
            <a:solidFill>
              <a:srgbClr val="f5e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5857920" y="2217600"/>
              <a:ext cx="60120" cy="42840"/>
            </a:xfrm>
            <a:custGeom>
              <a:avLst/>
              <a:gdLst/>
              <a:ahLst/>
              <a:rect l="l" t="t" r="r" b="b"/>
              <a:pathLst>
                <a:path w="380" h="734">
                  <a:moveTo>
                    <a:pt x="151" y="0"/>
                  </a:moveTo>
                  <a:lnTo>
                    <a:pt x="0" y="660"/>
                  </a:lnTo>
                  <a:lnTo>
                    <a:pt x="226" y="734"/>
                  </a:lnTo>
                  <a:lnTo>
                    <a:pt x="380" y="147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5797440" y="2597040"/>
              <a:ext cx="71640" cy="20880"/>
            </a:xfrm>
            <a:custGeom>
              <a:avLst/>
              <a:gdLst/>
              <a:ahLst/>
              <a:rect l="l" t="t" r="r" b="b"/>
              <a:pathLst>
                <a:path w="455" h="365">
                  <a:moveTo>
                    <a:pt x="229" y="0"/>
                  </a:moveTo>
                  <a:lnTo>
                    <a:pt x="0" y="219"/>
                  </a:lnTo>
                  <a:lnTo>
                    <a:pt x="229" y="365"/>
                  </a:lnTo>
                  <a:lnTo>
                    <a:pt x="455" y="365"/>
                  </a:lnTo>
                  <a:lnTo>
                    <a:pt x="455" y="7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5784840" y="2678040"/>
              <a:ext cx="73080" cy="22320"/>
            </a:xfrm>
            <a:custGeom>
              <a:avLst/>
              <a:gdLst/>
              <a:ahLst/>
              <a:rect l="l" t="t" r="r" b="b"/>
              <a:pathLst>
                <a:path w="458" h="367">
                  <a:moveTo>
                    <a:pt x="229" y="0"/>
                  </a:moveTo>
                  <a:lnTo>
                    <a:pt x="0" y="75"/>
                  </a:lnTo>
                  <a:lnTo>
                    <a:pt x="76" y="367"/>
                  </a:lnTo>
                  <a:lnTo>
                    <a:pt x="305" y="367"/>
                  </a:lnTo>
                  <a:lnTo>
                    <a:pt x="458" y="145"/>
                  </a:lnTo>
                  <a:lnTo>
                    <a:pt x="305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16"/>
            <p:cNvSpPr/>
            <p:nvPr/>
          </p:nvSpPr>
          <p:spPr>
            <a:xfrm>
              <a:off x="4754520" y="2579760"/>
              <a:ext cx="60480" cy="42840"/>
            </a:xfrm>
            <a:custGeom>
              <a:avLst/>
              <a:gdLst/>
              <a:ahLst/>
              <a:rect l="l" t="t" r="r" b="b"/>
              <a:pathLst>
                <a:path w="381" h="736">
                  <a:moveTo>
                    <a:pt x="0" y="0"/>
                  </a:moveTo>
                  <a:lnTo>
                    <a:pt x="381" y="440"/>
                  </a:lnTo>
                  <a:lnTo>
                    <a:pt x="0" y="736"/>
                  </a:lnTo>
                  <a:lnTo>
                    <a:pt x="74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4500720" y="2579760"/>
              <a:ext cx="72720" cy="50760"/>
            </a:xfrm>
            <a:custGeom>
              <a:avLst/>
              <a:gdLst/>
              <a:ahLst/>
              <a:rect l="l" t="t" r="r" b="b"/>
              <a:pathLst>
                <a:path w="457" h="883">
                  <a:moveTo>
                    <a:pt x="78" y="0"/>
                  </a:moveTo>
                  <a:lnTo>
                    <a:pt x="457" y="588"/>
                  </a:lnTo>
                  <a:lnTo>
                    <a:pt x="0" y="883"/>
                  </a:lnTo>
                  <a:lnTo>
                    <a:pt x="154" y="51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8"/>
            <p:cNvSpPr/>
            <p:nvPr/>
          </p:nvSpPr>
          <p:spPr>
            <a:xfrm>
              <a:off x="4224240" y="2160720"/>
              <a:ext cx="808200" cy="331560"/>
            </a:xfrm>
            <a:custGeom>
              <a:avLst/>
              <a:gdLst/>
              <a:ahLst/>
              <a:rect l="l" t="t" r="r" b="b"/>
              <a:pathLst>
                <a:path w="5088" h="5651">
                  <a:moveTo>
                    <a:pt x="2809" y="587"/>
                  </a:moveTo>
                  <a:lnTo>
                    <a:pt x="3723" y="2495"/>
                  </a:lnTo>
                  <a:lnTo>
                    <a:pt x="4254" y="2643"/>
                  </a:lnTo>
                  <a:lnTo>
                    <a:pt x="3950" y="2937"/>
                  </a:lnTo>
                  <a:lnTo>
                    <a:pt x="3950" y="3302"/>
                  </a:lnTo>
                  <a:lnTo>
                    <a:pt x="2809" y="3598"/>
                  </a:lnTo>
                  <a:lnTo>
                    <a:pt x="3416" y="4550"/>
                  </a:lnTo>
                  <a:lnTo>
                    <a:pt x="3191" y="5284"/>
                  </a:lnTo>
                  <a:lnTo>
                    <a:pt x="4329" y="5651"/>
                  </a:lnTo>
                  <a:lnTo>
                    <a:pt x="4937" y="5580"/>
                  </a:lnTo>
                  <a:lnTo>
                    <a:pt x="5088" y="5065"/>
                  </a:lnTo>
                  <a:lnTo>
                    <a:pt x="4786" y="4845"/>
                  </a:lnTo>
                  <a:lnTo>
                    <a:pt x="4786" y="5065"/>
                  </a:lnTo>
                  <a:lnTo>
                    <a:pt x="4633" y="5284"/>
                  </a:lnTo>
                  <a:lnTo>
                    <a:pt x="3723" y="4845"/>
                  </a:lnTo>
                  <a:lnTo>
                    <a:pt x="3799" y="4478"/>
                  </a:lnTo>
                  <a:lnTo>
                    <a:pt x="3191" y="3817"/>
                  </a:lnTo>
                  <a:lnTo>
                    <a:pt x="4178" y="3450"/>
                  </a:lnTo>
                  <a:lnTo>
                    <a:pt x="4178" y="3010"/>
                  </a:lnTo>
                  <a:lnTo>
                    <a:pt x="4786" y="2570"/>
                  </a:lnTo>
                  <a:lnTo>
                    <a:pt x="3871" y="2274"/>
                  </a:lnTo>
                  <a:lnTo>
                    <a:pt x="2887" y="0"/>
                  </a:lnTo>
                  <a:lnTo>
                    <a:pt x="1517" y="736"/>
                  </a:lnTo>
                  <a:lnTo>
                    <a:pt x="683" y="1764"/>
                  </a:lnTo>
                  <a:lnTo>
                    <a:pt x="78" y="3228"/>
                  </a:lnTo>
                  <a:lnTo>
                    <a:pt x="0" y="4478"/>
                  </a:lnTo>
                  <a:lnTo>
                    <a:pt x="988" y="4917"/>
                  </a:lnTo>
                  <a:lnTo>
                    <a:pt x="2279" y="5211"/>
                  </a:lnTo>
                  <a:lnTo>
                    <a:pt x="2734" y="4993"/>
                  </a:lnTo>
                  <a:lnTo>
                    <a:pt x="2809" y="4478"/>
                  </a:lnTo>
                  <a:lnTo>
                    <a:pt x="2432" y="4183"/>
                  </a:lnTo>
                  <a:lnTo>
                    <a:pt x="2508" y="4550"/>
                  </a:lnTo>
                  <a:lnTo>
                    <a:pt x="2203" y="4625"/>
                  </a:lnTo>
                  <a:lnTo>
                    <a:pt x="1746" y="4183"/>
                  </a:lnTo>
                  <a:lnTo>
                    <a:pt x="1517" y="3523"/>
                  </a:lnTo>
                  <a:lnTo>
                    <a:pt x="1824" y="1834"/>
                  </a:lnTo>
                  <a:lnTo>
                    <a:pt x="2809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4633920" y="2268360"/>
              <a:ext cx="36360" cy="43200"/>
            </a:xfrm>
            <a:custGeom>
              <a:avLst/>
              <a:gdLst/>
              <a:ahLst/>
              <a:rect l="l" t="t" r="r" b="b"/>
              <a:pathLst>
                <a:path w="229" h="736">
                  <a:moveTo>
                    <a:pt x="0" y="76"/>
                  </a:moveTo>
                  <a:lnTo>
                    <a:pt x="78" y="661"/>
                  </a:lnTo>
                  <a:lnTo>
                    <a:pt x="229" y="736"/>
                  </a:lnTo>
                  <a:lnTo>
                    <a:pt x="229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4344840" y="3002040"/>
              <a:ext cx="71640" cy="47520"/>
            </a:xfrm>
            <a:custGeom>
              <a:avLst/>
              <a:gdLst/>
              <a:ahLst/>
              <a:rect l="l" t="t" r="r" b="b"/>
              <a:pathLst>
                <a:path w="457" h="807">
                  <a:moveTo>
                    <a:pt x="229" y="0"/>
                  </a:moveTo>
                  <a:lnTo>
                    <a:pt x="457" y="149"/>
                  </a:lnTo>
                  <a:lnTo>
                    <a:pt x="457" y="807"/>
                  </a:lnTo>
                  <a:lnTo>
                    <a:pt x="0" y="22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4091040" y="2984400"/>
              <a:ext cx="60120" cy="47880"/>
            </a:xfrm>
            <a:custGeom>
              <a:avLst/>
              <a:gdLst/>
              <a:ahLst/>
              <a:rect l="l" t="t" r="r" b="b"/>
              <a:pathLst>
                <a:path w="379" h="807">
                  <a:moveTo>
                    <a:pt x="229" y="0"/>
                  </a:moveTo>
                  <a:lnTo>
                    <a:pt x="379" y="145"/>
                  </a:lnTo>
                  <a:lnTo>
                    <a:pt x="379" y="807"/>
                  </a:lnTo>
                  <a:lnTo>
                    <a:pt x="0" y="218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6039000" y="3002040"/>
              <a:ext cx="107640" cy="34920"/>
            </a:xfrm>
            <a:custGeom>
              <a:avLst/>
              <a:gdLst/>
              <a:ahLst/>
              <a:rect l="l" t="t" r="r" b="b"/>
              <a:pathLst>
                <a:path w="684" h="589">
                  <a:moveTo>
                    <a:pt x="305" y="0"/>
                  </a:moveTo>
                  <a:lnTo>
                    <a:pt x="533" y="0"/>
                  </a:lnTo>
                  <a:lnTo>
                    <a:pt x="684" y="222"/>
                  </a:lnTo>
                  <a:lnTo>
                    <a:pt x="0" y="589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6496200" y="3002040"/>
              <a:ext cx="109440" cy="39600"/>
            </a:xfrm>
            <a:custGeom>
              <a:avLst/>
              <a:gdLst/>
              <a:ahLst/>
              <a:rect l="l" t="t" r="r" b="b"/>
              <a:pathLst>
                <a:path w="684" h="664">
                  <a:moveTo>
                    <a:pt x="301" y="76"/>
                  </a:moveTo>
                  <a:lnTo>
                    <a:pt x="530" y="0"/>
                  </a:lnTo>
                  <a:lnTo>
                    <a:pt x="684" y="294"/>
                  </a:lnTo>
                  <a:lnTo>
                    <a:pt x="0" y="664"/>
                  </a:lnTo>
                  <a:lnTo>
                    <a:pt x="3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4176720" y="2496960"/>
              <a:ext cx="976320" cy="57240"/>
            </a:xfrm>
            <a:custGeom>
              <a:avLst/>
              <a:gdLst/>
              <a:ahLst/>
              <a:rect l="l" t="t" r="r" b="b"/>
              <a:pathLst>
                <a:path w="6148" h="955">
                  <a:moveTo>
                    <a:pt x="0" y="955"/>
                  </a:moveTo>
                  <a:lnTo>
                    <a:pt x="450" y="439"/>
                  </a:lnTo>
                  <a:lnTo>
                    <a:pt x="1515" y="0"/>
                  </a:lnTo>
                  <a:lnTo>
                    <a:pt x="2653" y="0"/>
                  </a:lnTo>
                  <a:lnTo>
                    <a:pt x="3869" y="221"/>
                  </a:lnTo>
                  <a:lnTo>
                    <a:pt x="4628" y="515"/>
                  </a:lnTo>
                  <a:lnTo>
                    <a:pt x="5616" y="882"/>
                  </a:lnTo>
                  <a:lnTo>
                    <a:pt x="6148" y="955"/>
                  </a:lnTo>
                  <a:lnTo>
                    <a:pt x="4766" y="955"/>
                  </a:lnTo>
                  <a:lnTo>
                    <a:pt x="4098" y="662"/>
                  </a:lnTo>
                  <a:lnTo>
                    <a:pt x="3262" y="439"/>
                  </a:lnTo>
                  <a:lnTo>
                    <a:pt x="2199" y="296"/>
                  </a:lnTo>
                  <a:lnTo>
                    <a:pt x="1287" y="439"/>
                  </a:lnTo>
                  <a:lnTo>
                    <a:pt x="679" y="736"/>
                  </a:lnTo>
                  <a:lnTo>
                    <a:pt x="414" y="955"/>
                  </a:lnTo>
                  <a:lnTo>
                    <a:pt x="0" y="9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4067280" y="2554200"/>
              <a:ext cx="372960" cy="98640"/>
            </a:xfrm>
            <a:custGeom>
              <a:avLst/>
              <a:gdLst/>
              <a:ahLst/>
              <a:rect l="l" t="t" r="r" b="b"/>
              <a:pathLst>
                <a:path w="2354" h="1688">
                  <a:moveTo>
                    <a:pt x="1899" y="1688"/>
                  </a:moveTo>
                  <a:lnTo>
                    <a:pt x="1899" y="1688"/>
                  </a:lnTo>
                  <a:lnTo>
                    <a:pt x="1975" y="807"/>
                  </a:lnTo>
                  <a:lnTo>
                    <a:pt x="1291" y="660"/>
                  </a:lnTo>
                  <a:lnTo>
                    <a:pt x="0" y="954"/>
                  </a:lnTo>
                  <a:lnTo>
                    <a:pt x="303" y="439"/>
                  </a:lnTo>
                  <a:lnTo>
                    <a:pt x="688" y="0"/>
                  </a:lnTo>
                  <a:lnTo>
                    <a:pt x="1102" y="0"/>
                  </a:lnTo>
                  <a:lnTo>
                    <a:pt x="834" y="220"/>
                  </a:lnTo>
                  <a:lnTo>
                    <a:pt x="379" y="660"/>
                  </a:lnTo>
                  <a:lnTo>
                    <a:pt x="758" y="515"/>
                  </a:lnTo>
                  <a:lnTo>
                    <a:pt x="1367" y="515"/>
                  </a:lnTo>
                  <a:lnTo>
                    <a:pt x="1975" y="515"/>
                  </a:lnTo>
                  <a:lnTo>
                    <a:pt x="2354" y="660"/>
                  </a:lnTo>
                  <a:lnTo>
                    <a:pt x="2278" y="1175"/>
                  </a:lnTo>
                  <a:lnTo>
                    <a:pt x="2203" y="1688"/>
                  </a:lnTo>
                  <a:lnTo>
                    <a:pt x="1899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4862520" y="2554200"/>
              <a:ext cx="411120" cy="98640"/>
            </a:xfrm>
            <a:custGeom>
              <a:avLst/>
              <a:gdLst/>
              <a:ahLst/>
              <a:rect l="l" t="t" r="r" b="b"/>
              <a:pathLst>
                <a:path w="2583" h="1688">
                  <a:moveTo>
                    <a:pt x="63" y="1688"/>
                  </a:moveTo>
                  <a:lnTo>
                    <a:pt x="0" y="879"/>
                  </a:lnTo>
                  <a:lnTo>
                    <a:pt x="532" y="807"/>
                  </a:lnTo>
                  <a:lnTo>
                    <a:pt x="1138" y="660"/>
                  </a:lnTo>
                  <a:lnTo>
                    <a:pt x="1975" y="294"/>
                  </a:lnTo>
                  <a:lnTo>
                    <a:pt x="1292" y="294"/>
                  </a:lnTo>
                  <a:lnTo>
                    <a:pt x="608" y="72"/>
                  </a:lnTo>
                  <a:lnTo>
                    <a:pt x="442" y="0"/>
                  </a:lnTo>
                  <a:lnTo>
                    <a:pt x="1824" y="0"/>
                  </a:lnTo>
                  <a:lnTo>
                    <a:pt x="1824" y="0"/>
                  </a:lnTo>
                  <a:lnTo>
                    <a:pt x="2583" y="0"/>
                  </a:lnTo>
                  <a:lnTo>
                    <a:pt x="2354" y="439"/>
                  </a:lnTo>
                  <a:lnTo>
                    <a:pt x="1824" y="735"/>
                  </a:lnTo>
                  <a:lnTo>
                    <a:pt x="990" y="954"/>
                  </a:lnTo>
                  <a:lnTo>
                    <a:pt x="382" y="1175"/>
                  </a:lnTo>
                  <a:lnTo>
                    <a:pt x="382" y="1688"/>
                  </a:lnTo>
                  <a:lnTo>
                    <a:pt x="63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4151160" y="2652840"/>
              <a:ext cx="773280" cy="341280"/>
            </a:xfrm>
            <a:custGeom>
              <a:avLst/>
              <a:gdLst/>
              <a:ahLst/>
              <a:rect l="l" t="t" r="r" b="b"/>
              <a:pathLst>
                <a:path w="4865" h="5796">
                  <a:moveTo>
                    <a:pt x="1370" y="0"/>
                  </a:moveTo>
                  <a:lnTo>
                    <a:pt x="762" y="1247"/>
                  </a:lnTo>
                  <a:lnTo>
                    <a:pt x="154" y="2128"/>
                  </a:lnTo>
                  <a:lnTo>
                    <a:pt x="913" y="2422"/>
                  </a:lnTo>
                  <a:lnTo>
                    <a:pt x="762" y="3523"/>
                  </a:lnTo>
                  <a:lnTo>
                    <a:pt x="0" y="5430"/>
                  </a:lnTo>
                  <a:lnTo>
                    <a:pt x="1292" y="4696"/>
                  </a:lnTo>
                  <a:lnTo>
                    <a:pt x="2129" y="3817"/>
                  </a:lnTo>
                  <a:lnTo>
                    <a:pt x="1599" y="5796"/>
                  </a:lnTo>
                  <a:lnTo>
                    <a:pt x="2204" y="5211"/>
                  </a:lnTo>
                  <a:lnTo>
                    <a:pt x="2966" y="4550"/>
                  </a:lnTo>
                  <a:lnTo>
                    <a:pt x="3649" y="3743"/>
                  </a:lnTo>
                  <a:lnTo>
                    <a:pt x="4408" y="2201"/>
                  </a:lnTo>
                  <a:lnTo>
                    <a:pt x="4787" y="2053"/>
                  </a:lnTo>
                  <a:lnTo>
                    <a:pt x="4865" y="734"/>
                  </a:lnTo>
                  <a:lnTo>
                    <a:pt x="4865" y="0"/>
                  </a:lnTo>
                  <a:lnTo>
                    <a:pt x="4546" y="0"/>
                  </a:lnTo>
                  <a:lnTo>
                    <a:pt x="4558" y="145"/>
                  </a:lnTo>
                  <a:lnTo>
                    <a:pt x="4558" y="1395"/>
                  </a:lnTo>
                  <a:lnTo>
                    <a:pt x="4408" y="1910"/>
                  </a:lnTo>
                  <a:lnTo>
                    <a:pt x="3116" y="2274"/>
                  </a:lnTo>
                  <a:lnTo>
                    <a:pt x="1901" y="2350"/>
                  </a:lnTo>
                  <a:lnTo>
                    <a:pt x="1067" y="2128"/>
                  </a:lnTo>
                  <a:lnTo>
                    <a:pt x="684" y="1910"/>
                  </a:lnTo>
                  <a:lnTo>
                    <a:pt x="1370" y="734"/>
                  </a:lnTo>
                  <a:lnTo>
                    <a:pt x="1674" y="0"/>
                  </a:lnTo>
                  <a:lnTo>
                    <a:pt x="1674" y="0"/>
                  </a:lnTo>
                  <a:lnTo>
                    <a:pt x="1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28"/>
            <p:cNvSpPr/>
            <p:nvPr/>
          </p:nvSpPr>
          <p:spPr>
            <a:xfrm>
              <a:off x="5508720" y="2057400"/>
              <a:ext cx="758880" cy="263520"/>
            </a:xfrm>
            <a:custGeom>
              <a:avLst/>
              <a:gdLst/>
              <a:ahLst/>
              <a:rect l="l" t="t" r="r" b="b"/>
              <a:pathLst>
                <a:path w="4784" h="4478">
                  <a:moveTo>
                    <a:pt x="1317" y="4478"/>
                  </a:moveTo>
                  <a:lnTo>
                    <a:pt x="1292" y="4402"/>
                  </a:lnTo>
                  <a:lnTo>
                    <a:pt x="0" y="3814"/>
                  </a:lnTo>
                  <a:lnTo>
                    <a:pt x="912" y="3301"/>
                  </a:lnTo>
                  <a:lnTo>
                    <a:pt x="1292" y="1540"/>
                  </a:lnTo>
                  <a:lnTo>
                    <a:pt x="912" y="0"/>
                  </a:lnTo>
                  <a:lnTo>
                    <a:pt x="4784" y="2055"/>
                  </a:lnTo>
                  <a:lnTo>
                    <a:pt x="4405" y="3741"/>
                  </a:lnTo>
                  <a:lnTo>
                    <a:pt x="4709" y="3741"/>
                  </a:lnTo>
                  <a:lnTo>
                    <a:pt x="4784" y="4254"/>
                  </a:lnTo>
                  <a:lnTo>
                    <a:pt x="4618" y="4478"/>
                  </a:lnTo>
                  <a:lnTo>
                    <a:pt x="4159" y="4478"/>
                  </a:lnTo>
                  <a:lnTo>
                    <a:pt x="4405" y="4181"/>
                  </a:lnTo>
                  <a:lnTo>
                    <a:pt x="4176" y="3963"/>
                  </a:lnTo>
                  <a:lnTo>
                    <a:pt x="4405" y="2420"/>
                  </a:lnTo>
                  <a:lnTo>
                    <a:pt x="1596" y="1613"/>
                  </a:lnTo>
                  <a:lnTo>
                    <a:pt x="1214" y="3226"/>
                  </a:lnTo>
                  <a:lnTo>
                    <a:pt x="609" y="3814"/>
                  </a:lnTo>
                  <a:lnTo>
                    <a:pt x="1443" y="4108"/>
                  </a:lnTo>
                  <a:lnTo>
                    <a:pt x="1596" y="4475"/>
                  </a:lnTo>
                  <a:lnTo>
                    <a:pt x="2506" y="4475"/>
                  </a:lnTo>
                  <a:lnTo>
                    <a:pt x="2503" y="4478"/>
                  </a:lnTo>
                  <a:lnTo>
                    <a:pt x="1317" y="4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29"/>
            <p:cNvSpPr/>
            <p:nvPr/>
          </p:nvSpPr>
          <p:spPr>
            <a:xfrm>
              <a:off x="5459400" y="2320920"/>
              <a:ext cx="781200" cy="200160"/>
            </a:xfrm>
            <a:custGeom>
              <a:avLst/>
              <a:gdLst/>
              <a:ahLst/>
              <a:rect l="l" t="t" r="r" b="b"/>
              <a:pathLst>
                <a:path w="4921" h="3410">
                  <a:moveTo>
                    <a:pt x="130" y="3410"/>
                  </a:moveTo>
                  <a:lnTo>
                    <a:pt x="0" y="3372"/>
                  </a:lnTo>
                  <a:lnTo>
                    <a:pt x="912" y="2932"/>
                  </a:lnTo>
                  <a:lnTo>
                    <a:pt x="1824" y="2637"/>
                  </a:lnTo>
                  <a:lnTo>
                    <a:pt x="1824" y="731"/>
                  </a:lnTo>
                  <a:lnTo>
                    <a:pt x="2432" y="218"/>
                  </a:lnTo>
                  <a:lnTo>
                    <a:pt x="1746" y="364"/>
                  </a:lnTo>
                  <a:lnTo>
                    <a:pt x="1620" y="0"/>
                  </a:lnTo>
                  <a:lnTo>
                    <a:pt x="2806" y="0"/>
                  </a:lnTo>
                  <a:lnTo>
                    <a:pt x="2125" y="804"/>
                  </a:lnTo>
                  <a:lnTo>
                    <a:pt x="2049" y="2637"/>
                  </a:lnTo>
                  <a:lnTo>
                    <a:pt x="2658" y="2861"/>
                  </a:lnTo>
                  <a:lnTo>
                    <a:pt x="3266" y="2861"/>
                  </a:lnTo>
                  <a:lnTo>
                    <a:pt x="4100" y="218"/>
                  </a:lnTo>
                  <a:lnTo>
                    <a:pt x="4403" y="70"/>
                  </a:lnTo>
                  <a:lnTo>
                    <a:pt x="4462" y="0"/>
                  </a:lnTo>
                  <a:lnTo>
                    <a:pt x="4921" y="0"/>
                  </a:lnTo>
                  <a:lnTo>
                    <a:pt x="4708" y="291"/>
                  </a:lnTo>
                  <a:lnTo>
                    <a:pt x="4403" y="364"/>
                  </a:lnTo>
                  <a:lnTo>
                    <a:pt x="3569" y="3005"/>
                  </a:lnTo>
                  <a:lnTo>
                    <a:pt x="4329" y="3372"/>
                  </a:lnTo>
                  <a:lnTo>
                    <a:pt x="4374" y="3410"/>
                  </a:lnTo>
                  <a:lnTo>
                    <a:pt x="3193" y="3410"/>
                  </a:lnTo>
                  <a:lnTo>
                    <a:pt x="3266" y="3152"/>
                  </a:lnTo>
                  <a:lnTo>
                    <a:pt x="2733" y="3152"/>
                  </a:lnTo>
                  <a:lnTo>
                    <a:pt x="2831" y="3410"/>
                  </a:lnTo>
                  <a:lnTo>
                    <a:pt x="2198" y="3410"/>
                  </a:lnTo>
                  <a:lnTo>
                    <a:pt x="2354" y="3080"/>
                  </a:lnTo>
                  <a:lnTo>
                    <a:pt x="1975" y="2932"/>
                  </a:lnTo>
                  <a:lnTo>
                    <a:pt x="1975" y="3410"/>
                  </a:lnTo>
                  <a:lnTo>
                    <a:pt x="130" y="3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30"/>
            <p:cNvSpPr/>
            <p:nvPr/>
          </p:nvSpPr>
          <p:spPr>
            <a:xfrm>
              <a:off x="5479920" y="2521080"/>
              <a:ext cx="293760" cy="19080"/>
            </a:xfrm>
            <a:custGeom>
              <a:avLst/>
              <a:gdLst/>
              <a:ahLst/>
              <a:rect l="l" t="t" r="r" b="b"/>
              <a:pathLst>
                <a:path w="1845" h="331">
                  <a:moveTo>
                    <a:pt x="854" y="331"/>
                  </a:moveTo>
                  <a:lnTo>
                    <a:pt x="857" y="257"/>
                  </a:lnTo>
                  <a:lnTo>
                    <a:pt x="0" y="0"/>
                  </a:lnTo>
                  <a:lnTo>
                    <a:pt x="1845" y="0"/>
                  </a:lnTo>
                  <a:lnTo>
                    <a:pt x="1845" y="331"/>
                  </a:lnTo>
                  <a:lnTo>
                    <a:pt x="854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31"/>
            <p:cNvSpPr/>
            <p:nvPr/>
          </p:nvSpPr>
          <p:spPr>
            <a:xfrm>
              <a:off x="5783400" y="2521080"/>
              <a:ext cx="145800" cy="19080"/>
            </a:xfrm>
            <a:custGeom>
              <a:avLst/>
              <a:gdLst/>
              <a:ahLst/>
              <a:rect l="l" t="t" r="r" b="b"/>
              <a:pathLst>
                <a:path w="913" h="331">
                  <a:moveTo>
                    <a:pt x="0" y="331"/>
                  </a:moveTo>
                  <a:lnTo>
                    <a:pt x="156" y="0"/>
                  </a:lnTo>
                  <a:lnTo>
                    <a:pt x="789" y="0"/>
                  </a:lnTo>
                  <a:lnTo>
                    <a:pt x="913" y="331"/>
                  </a:lnTo>
                  <a:lnTo>
                    <a:pt x="460" y="331"/>
                  </a:lnTo>
                  <a:lnTo>
                    <a:pt x="390" y="182"/>
                  </a:lnTo>
                  <a:lnTo>
                    <a:pt x="279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5951520" y="2521080"/>
              <a:ext cx="263520" cy="19080"/>
            </a:xfrm>
            <a:custGeom>
              <a:avLst/>
              <a:gdLst/>
              <a:ahLst/>
              <a:rect l="l" t="t" r="r" b="b"/>
              <a:pathLst>
                <a:path w="1656" h="331">
                  <a:moveTo>
                    <a:pt x="0" y="331"/>
                  </a:moveTo>
                  <a:lnTo>
                    <a:pt x="93" y="0"/>
                  </a:lnTo>
                  <a:lnTo>
                    <a:pt x="1274" y="0"/>
                  </a:lnTo>
                  <a:lnTo>
                    <a:pt x="1656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5614920" y="2540160"/>
              <a:ext cx="212760" cy="14040"/>
            </a:xfrm>
            <a:custGeom>
              <a:avLst/>
              <a:gdLst/>
              <a:ahLst/>
              <a:rect l="l" t="t" r="r" b="b"/>
              <a:pathLst>
                <a:path w="1341" h="219">
                  <a:moveTo>
                    <a:pt x="0" y="219"/>
                  </a:moveTo>
                  <a:lnTo>
                    <a:pt x="4" y="0"/>
                  </a:lnTo>
                  <a:lnTo>
                    <a:pt x="995" y="0"/>
                  </a:lnTo>
                  <a:lnTo>
                    <a:pt x="995" y="146"/>
                  </a:lnTo>
                  <a:lnTo>
                    <a:pt x="1062" y="0"/>
                  </a:lnTo>
                  <a:lnTo>
                    <a:pt x="1341" y="0"/>
                  </a:lnTo>
                  <a:lnTo>
                    <a:pt x="1175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5856120" y="2540160"/>
              <a:ext cx="398520" cy="14040"/>
            </a:xfrm>
            <a:custGeom>
              <a:avLst/>
              <a:gdLst/>
              <a:ahLst/>
              <a:rect l="l" t="t" r="r" b="b"/>
              <a:pathLst>
                <a:path w="2505" h="219">
                  <a:moveTo>
                    <a:pt x="106" y="219"/>
                  </a:moveTo>
                  <a:lnTo>
                    <a:pt x="0" y="0"/>
                  </a:lnTo>
                  <a:lnTo>
                    <a:pt x="453" y="0"/>
                  </a:lnTo>
                  <a:lnTo>
                    <a:pt x="535" y="219"/>
                  </a:lnTo>
                  <a:lnTo>
                    <a:pt x="598" y="0"/>
                  </a:lnTo>
                  <a:lnTo>
                    <a:pt x="2254" y="0"/>
                  </a:lnTo>
                  <a:lnTo>
                    <a:pt x="2505" y="219"/>
                  </a:lnTo>
                  <a:lnTo>
                    <a:pt x="10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5608800" y="2554200"/>
              <a:ext cx="193680" cy="92160"/>
            </a:xfrm>
            <a:custGeom>
              <a:avLst/>
              <a:gdLst/>
              <a:ahLst/>
              <a:rect l="l" t="t" r="r" b="b"/>
              <a:pathLst>
                <a:path w="1216" h="1576">
                  <a:moveTo>
                    <a:pt x="0" y="1576"/>
                  </a:moveTo>
                  <a:lnTo>
                    <a:pt x="41" y="0"/>
                  </a:lnTo>
                  <a:lnTo>
                    <a:pt x="1216" y="0"/>
                  </a:lnTo>
                  <a:lnTo>
                    <a:pt x="885" y="439"/>
                  </a:lnTo>
                  <a:lnTo>
                    <a:pt x="847" y="1576"/>
                  </a:lnTo>
                  <a:lnTo>
                    <a:pt x="0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5873760" y="2554200"/>
              <a:ext cx="568440" cy="92160"/>
            </a:xfrm>
            <a:custGeom>
              <a:avLst/>
              <a:gdLst/>
              <a:ahLst/>
              <a:rect l="l" t="t" r="r" b="b"/>
              <a:pathLst>
                <a:path w="3578" h="1576">
                  <a:moveTo>
                    <a:pt x="447" y="1576"/>
                  </a:moveTo>
                  <a:lnTo>
                    <a:pt x="354" y="735"/>
                  </a:lnTo>
                  <a:lnTo>
                    <a:pt x="0" y="0"/>
                  </a:lnTo>
                  <a:lnTo>
                    <a:pt x="2399" y="0"/>
                  </a:lnTo>
                  <a:lnTo>
                    <a:pt x="3163" y="660"/>
                  </a:lnTo>
                  <a:lnTo>
                    <a:pt x="3578" y="1576"/>
                  </a:lnTo>
                  <a:lnTo>
                    <a:pt x="3158" y="1576"/>
                  </a:lnTo>
                  <a:lnTo>
                    <a:pt x="3088" y="1542"/>
                  </a:lnTo>
                  <a:lnTo>
                    <a:pt x="2254" y="1322"/>
                  </a:lnTo>
                  <a:lnTo>
                    <a:pt x="2298" y="1576"/>
                  </a:lnTo>
                  <a:lnTo>
                    <a:pt x="447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5603760" y="2646360"/>
              <a:ext cx="941400" cy="343080"/>
            </a:xfrm>
            <a:custGeom>
              <a:avLst/>
              <a:gdLst/>
              <a:ahLst/>
              <a:rect l="l" t="t" r="r" b="b"/>
              <a:pathLst>
                <a:path w="5921" h="5836">
                  <a:moveTo>
                    <a:pt x="27" y="0"/>
                  </a:moveTo>
                  <a:lnTo>
                    <a:pt x="0" y="1067"/>
                  </a:lnTo>
                  <a:lnTo>
                    <a:pt x="455" y="1212"/>
                  </a:lnTo>
                  <a:lnTo>
                    <a:pt x="1442" y="3560"/>
                  </a:lnTo>
                  <a:lnTo>
                    <a:pt x="2050" y="4662"/>
                  </a:lnTo>
                  <a:lnTo>
                    <a:pt x="3188" y="5763"/>
                  </a:lnTo>
                  <a:lnTo>
                    <a:pt x="3038" y="3855"/>
                  </a:lnTo>
                  <a:lnTo>
                    <a:pt x="4024" y="4735"/>
                  </a:lnTo>
                  <a:lnTo>
                    <a:pt x="4859" y="5396"/>
                  </a:lnTo>
                  <a:lnTo>
                    <a:pt x="5921" y="5836"/>
                  </a:lnTo>
                  <a:lnTo>
                    <a:pt x="5392" y="4953"/>
                  </a:lnTo>
                  <a:lnTo>
                    <a:pt x="4329" y="2534"/>
                  </a:lnTo>
                  <a:lnTo>
                    <a:pt x="4937" y="2607"/>
                  </a:lnTo>
                  <a:lnTo>
                    <a:pt x="4175" y="994"/>
                  </a:lnTo>
                  <a:lnTo>
                    <a:pt x="3994" y="0"/>
                  </a:lnTo>
                  <a:lnTo>
                    <a:pt x="2143" y="0"/>
                  </a:lnTo>
                  <a:lnTo>
                    <a:pt x="2354" y="1947"/>
                  </a:lnTo>
                  <a:lnTo>
                    <a:pt x="834" y="1285"/>
                  </a:lnTo>
                  <a:lnTo>
                    <a:pt x="874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>
              <a:off x="6375240" y="2646360"/>
              <a:ext cx="86040" cy="14400"/>
            </a:xfrm>
            <a:custGeom>
              <a:avLst/>
              <a:gdLst/>
              <a:ahLst/>
              <a:rect l="l" t="t" r="r" b="b"/>
              <a:pathLst>
                <a:path w="538" h="257">
                  <a:moveTo>
                    <a:pt x="0" y="0"/>
                  </a:moveTo>
                  <a:lnTo>
                    <a:pt x="538" y="257"/>
                  </a:lnTo>
                  <a:lnTo>
                    <a:pt x="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>
              <a:off x="6461280" y="2657520"/>
              <a:ext cx="168120" cy="27000"/>
            </a:xfrm>
            <a:custGeom>
              <a:avLst/>
              <a:gdLst/>
              <a:ahLst/>
              <a:rect l="l" t="t" r="r" b="b"/>
              <a:pathLst>
                <a:path w="1065" h="476">
                  <a:moveTo>
                    <a:pt x="24" y="476"/>
                  </a:moveTo>
                  <a:lnTo>
                    <a:pt x="0" y="367"/>
                  </a:lnTo>
                  <a:lnTo>
                    <a:pt x="381" y="0"/>
                  </a:lnTo>
                  <a:lnTo>
                    <a:pt x="1065" y="442"/>
                  </a:lnTo>
                  <a:lnTo>
                    <a:pt x="881" y="476"/>
                  </a:lnTo>
                  <a:lnTo>
                    <a:pt x="492" y="476"/>
                  </a:lnTo>
                  <a:lnTo>
                    <a:pt x="457" y="294"/>
                  </a:lnTo>
                  <a:lnTo>
                    <a:pt x="228" y="442"/>
                  </a:lnTo>
                  <a:lnTo>
                    <a:pt x="276" y="476"/>
                  </a:lnTo>
                  <a:lnTo>
                    <a:pt x="24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>
              <a:off x="6464160" y="2684520"/>
              <a:ext cx="141480" cy="50760"/>
            </a:xfrm>
            <a:custGeom>
              <a:avLst/>
              <a:gdLst/>
              <a:ahLst/>
              <a:rect l="l" t="t" r="r" b="b"/>
              <a:pathLst>
                <a:path w="888" h="846">
                  <a:moveTo>
                    <a:pt x="0" y="0"/>
                  </a:moveTo>
                  <a:lnTo>
                    <a:pt x="204" y="846"/>
                  </a:lnTo>
                  <a:lnTo>
                    <a:pt x="279" y="258"/>
                  </a:lnTo>
                  <a:lnTo>
                    <a:pt x="888" y="551"/>
                  </a:lnTo>
                  <a:lnTo>
                    <a:pt x="659" y="36"/>
                  </a:lnTo>
                  <a:lnTo>
                    <a:pt x="857" y="0"/>
                  </a:lnTo>
                  <a:lnTo>
                    <a:pt x="468" y="0"/>
                  </a:lnTo>
                  <a:lnTo>
                    <a:pt x="505" y="185"/>
                  </a:lnTo>
                  <a:lnTo>
                    <a:pt x="2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>
              <a:off x="5354640" y="2496960"/>
              <a:ext cx="120600" cy="24120"/>
            </a:xfrm>
            <a:custGeom>
              <a:avLst/>
              <a:gdLst/>
              <a:ahLst/>
              <a:rect l="l" t="t" r="r" b="b"/>
              <a:pathLst>
                <a:path w="762" h="405">
                  <a:moveTo>
                    <a:pt x="0" y="405"/>
                  </a:moveTo>
                  <a:lnTo>
                    <a:pt x="0" y="296"/>
                  </a:lnTo>
                  <a:lnTo>
                    <a:pt x="154" y="0"/>
                  </a:lnTo>
                  <a:lnTo>
                    <a:pt x="455" y="75"/>
                  </a:lnTo>
                  <a:lnTo>
                    <a:pt x="762" y="221"/>
                  </a:lnTo>
                  <a:lnTo>
                    <a:pt x="762" y="405"/>
                  </a:lnTo>
                  <a:lnTo>
                    <a:pt x="494" y="405"/>
                  </a:lnTo>
                  <a:lnTo>
                    <a:pt x="455" y="296"/>
                  </a:lnTo>
                  <a:lnTo>
                    <a:pt x="305" y="221"/>
                  </a:lnTo>
                  <a:lnTo>
                    <a:pt x="209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>
              <a:off x="5354640" y="2521080"/>
              <a:ext cx="120600" cy="23760"/>
            </a:xfrm>
            <a:custGeom>
              <a:avLst/>
              <a:gdLst/>
              <a:ahLst/>
              <a:rect l="l" t="t" r="r" b="b"/>
              <a:pathLst>
                <a:path w="762" h="402">
                  <a:moveTo>
                    <a:pt x="0" y="0"/>
                  </a:moveTo>
                  <a:lnTo>
                    <a:pt x="0" y="257"/>
                  </a:lnTo>
                  <a:lnTo>
                    <a:pt x="305" y="402"/>
                  </a:lnTo>
                  <a:lnTo>
                    <a:pt x="684" y="331"/>
                  </a:lnTo>
                  <a:lnTo>
                    <a:pt x="762" y="110"/>
                  </a:lnTo>
                  <a:lnTo>
                    <a:pt x="762" y="0"/>
                  </a:lnTo>
                  <a:lnTo>
                    <a:pt x="494" y="0"/>
                  </a:lnTo>
                  <a:lnTo>
                    <a:pt x="533" y="110"/>
                  </a:lnTo>
                  <a:lnTo>
                    <a:pt x="305" y="182"/>
                  </a:lnTo>
                  <a:lnTo>
                    <a:pt x="154" y="110"/>
                  </a:lnTo>
                  <a:lnTo>
                    <a:pt x="2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5226120" y="2514600"/>
              <a:ext cx="123840" cy="19080"/>
            </a:xfrm>
            <a:custGeom>
              <a:avLst/>
              <a:gdLst/>
              <a:ahLst/>
              <a:rect l="l" t="t" r="r" b="b"/>
              <a:pathLst>
                <a:path w="779" h="330">
                  <a:moveTo>
                    <a:pt x="0" y="330"/>
                  </a:moveTo>
                  <a:lnTo>
                    <a:pt x="246" y="0"/>
                  </a:lnTo>
                  <a:lnTo>
                    <a:pt x="779" y="0"/>
                  </a:lnTo>
                  <a:lnTo>
                    <a:pt x="779" y="330"/>
                  </a:lnTo>
                  <a:lnTo>
                    <a:pt x="628" y="330"/>
                  </a:lnTo>
                  <a:lnTo>
                    <a:pt x="628" y="219"/>
                  </a:lnTo>
                  <a:lnTo>
                    <a:pt x="399" y="219"/>
                  </a:lnTo>
                  <a:lnTo>
                    <a:pt x="284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>
              <a:off x="5205240" y="2533680"/>
              <a:ext cx="144720" cy="20520"/>
            </a:xfrm>
            <a:custGeom>
              <a:avLst/>
              <a:gdLst/>
              <a:ahLst/>
              <a:rect l="l" t="t" r="r" b="b"/>
              <a:pathLst>
                <a:path w="912" h="329">
                  <a:moveTo>
                    <a:pt x="203" y="329"/>
                  </a:moveTo>
                  <a:lnTo>
                    <a:pt x="0" y="181"/>
                  </a:lnTo>
                  <a:lnTo>
                    <a:pt x="133" y="0"/>
                  </a:lnTo>
                  <a:lnTo>
                    <a:pt x="417" y="0"/>
                  </a:lnTo>
                  <a:lnTo>
                    <a:pt x="303" y="110"/>
                  </a:lnTo>
                  <a:lnTo>
                    <a:pt x="761" y="110"/>
                  </a:lnTo>
                  <a:lnTo>
                    <a:pt x="761" y="0"/>
                  </a:lnTo>
                  <a:lnTo>
                    <a:pt x="912" y="0"/>
                  </a:lnTo>
                  <a:lnTo>
                    <a:pt x="912" y="256"/>
                  </a:lnTo>
                  <a:lnTo>
                    <a:pt x="608" y="110"/>
                  </a:lnTo>
                  <a:lnTo>
                    <a:pt x="379" y="329"/>
                  </a:lnTo>
                  <a:lnTo>
                    <a:pt x="203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5237280" y="2554200"/>
              <a:ext cx="28440" cy="3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0" y="0"/>
                  </a:moveTo>
                  <a:lnTo>
                    <a:pt x="100" y="72"/>
                  </a:lnTo>
                  <a:lnTo>
                    <a:pt x="1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3898800" y="2614680"/>
              <a:ext cx="181080" cy="19080"/>
            </a:xfrm>
            <a:custGeom>
              <a:avLst/>
              <a:gdLst/>
              <a:ahLst/>
              <a:rect l="l" t="t" r="r" b="b"/>
              <a:pathLst>
                <a:path w="1138" h="331">
                  <a:moveTo>
                    <a:pt x="128" y="331"/>
                  </a:moveTo>
                  <a:lnTo>
                    <a:pt x="151" y="295"/>
                  </a:lnTo>
                  <a:lnTo>
                    <a:pt x="0" y="73"/>
                  </a:lnTo>
                  <a:lnTo>
                    <a:pt x="758" y="0"/>
                  </a:lnTo>
                  <a:lnTo>
                    <a:pt x="1138" y="295"/>
                  </a:lnTo>
                  <a:lnTo>
                    <a:pt x="1108" y="331"/>
                  </a:lnTo>
                  <a:lnTo>
                    <a:pt x="797" y="331"/>
                  </a:lnTo>
                  <a:lnTo>
                    <a:pt x="684" y="221"/>
                  </a:lnTo>
                  <a:lnTo>
                    <a:pt x="495" y="331"/>
                  </a:lnTo>
                  <a:lnTo>
                    <a:pt x="128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3886200" y="2633760"/>
              <a:ext cx="189000" cy="36360"/>
            </a:xfrm>
            <a:custGeom>
              <a:avLst/>
              <a:gdLst/>
              <a:ahLst/>
              <a:rect l="l" t="t" r="r" b="b"/>
              <a:pathLst>
                <a:path w="1186" h="624">
                  <a:moveTo>
                    <a:pt x="206" y="0"/>
                  </a:moveTo>
                  <a:lnTo>
                    <a:pt x="0" y="330"/>
                  </a:lnTo>
                  <a:lnTo>
                    <a:pt x="608" y="257"/>
                  </a:lnTo>
                  <a:lnTo>
                    <a:pt x="684" y="624"/>
                  </a:lnTo>
                  <a:lnTo>
                    <a:pt x="1186" y="0"/>
                  </a:lnTo>
                  <a:lnTo>
                    <a:pt x="875" y="0"/>
                  </a:lnTo>
                  <a:lnTo>
                    <a:pt x="912" y="36"/>
                  </a:lnTo>
                  <a:lnTo>
                    <a:pt x="382" y="109"/>
                  </a:lnTo>
                  <a:lnTo>
                    <a:pt x="573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Rectangle 48"/>
          <p:cNvSpPr/>
          <p:nvPr/>
        </p:nvSpPr>
        <p:spPr>
          <a:xfrm>
            <a:off x="3446640" y="5888160"/>
            <a:ext cx="2062080" cy="556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n 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2316240" y="471312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1523880" y="360360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53"/>
          <p:cNvSpPr txBox="1"/>
          <p:nvPr/>
        </p:nvSpPr>
        <p:spPr>
          <a:xfrm>
            <a:off x="1168560" y="395280"/>
            <a:ext cx="188568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un :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7819" dir="2700000" blurRad="0" rotWithShape="0">
              <a:srgbClr val="144d6e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0303"/>
                </a:solidFill>
                <a:latin typeface="Impact"/>
              </a:rPr>
              <a:t>Kinds of Nou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012680" y="2063880"/>
          <a:ext cx="7658280" cy="47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063880"/>
                    <a:ext cx="76582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7" descr="PPLGP076"/>
          <p:cNvPicPr/>
          <p:nvPr/>
        </p:nvPicPr>
        <p:blipFill>
          <a:blip r:embed="rId3"/>
          <a:stretch/>
        </p:blipFill>
        <p:spPr>
          <a:xfrm>
            <a:off x="3552840" y="2838600"/>
            <a:ext cx="14778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587600" y="415800"/>
            <a:ext cx="58482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The Verb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098720" y="2124000"/>
            <a:ext cx="786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word that expresses action or otherwise helps to make a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 rot="903000">
            <a:off x="4578480" y="4301640"/>
            <a:ext cx="3489120" cy="2111400"/>
          </a:xfrm>
          <a:prstGeom prst="leftRightArrow">
            <a:avLst>
              <a:gd name="adj1" fmla="val 50000"/>
              <a:gd name="adj2" fmla="val 3289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Times New Roman"/>
              </a:rPr>
              <a:t>Lin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7137360" y="3760920"/>
            <a:ext cx="73332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” ver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tas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fe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lo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app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c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e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gr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re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t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7"/>
          <p:cNvSpPr/>
          <p:nvPr/>
        </p:nvSpPr>
        <p:spPr>
          <a:xfrm rot="475800">
            <a:off x="3738600" y="4267080"/>
            <a:ext cx="1662120" cy="8226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Su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8"/>
          <p:cNvSpPr/>
          <p:nvPr/>
        </p:nvSpPr>
        <p:spPr>
          <a:xfrm rot="90600">
            <a:off x="7872480" y="5268600"/>
            <a:ext cx="1342800" cy="7621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1587600" y="3759120"/>
            <a:ext cx="219060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c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831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very sentence </a:t>
            </a:r>
            <a:r>
              <a:rPr b="0" lang="en-US" sz="4400" spc="-1" strike="noStrike">
                <a:solidFill>
                  <a:srgbClr val="ff5050"/>
                </a:solidFill>
                <a:latin typeface="Impact"/>
              </a:rPr>
              <a:t>must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hav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94920" y="3422160"/>
            <a:ext cx="222732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3695760" y="2158920"/>
            <a:ext cx="3181320" cy="301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6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ERB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1" name="Picture 9" descr="PPLM1161"/>
          <p:cNvPicPr/>
          <p:nvPr/>
        </p:nvPicPr>
        <p:blipFill>
          <a:blip r:embed="rId1"/>
          <a:stretch/>
        </p:blipFill>
        <p:spPr>
          <a:xfrm>
            <a:off x="7130880" y="412920"/>
            <a:ext cx="1751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6"/>
          <p:cNvGraphicFramePr/>
          <p:nvPr/>
        </p:nvGraphicFramePr>
        <p:xfrm>
          <a:off x="1219320" y="3684600"/>
          <a:ext cx="3384360" cy="14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84600"/>
                    <a:ext cx="338436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5144CE8B.WAV" descr=""/>
          <p:cNvPicPr/>
          <p:nvPr/>
        </p:nvPicPr>
        <p:blipFill>
          <a:blip r:embed="rId3"/>
          <a:stretch/>
        </p:blipFill>
        <p:spPr>
          <a:xfrm>
            <a:off x="-598320" y="42051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Kinds of Verbs</a:t>
            </a:r>
            <a:endParaRPr b="0" lang="en-US" sz="6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13255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tion verbs express mental or physical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action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2923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nking verbs make a statement by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connecting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the subject  with a word  that describes or explains i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038240" y="5162400"/>
            <a:ext cx="37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horse to vict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765760" y="581040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s be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18"/>
          <p:cNvSpPr/>
          <p:nvPr/>
        </p:nvSpPr>
        <p:spPr>
          <a:xfrm rot="20896200">
            <a:off x="6483240" y="5289480"/>
            <a:ext cx="1917720" cy="1040040"/>
          </a:xfrm>
          <a:custGeom>
            <a:avLst/>
            <a:gdLst>
              <a:gd name="textAreaLeft" fmla="*/ 280800 w 1917720"/>
              <a:gd name="textAreaRight" fmla="*/ 1636920 w 1917720"/>
              <a:gd name="textAreaTop" fmla="*/ 152280 h 1040040"/>
              <a:gd name="textAreaBottom" fmla="*/ 887760 h 1040040"/>
            </a:gdLst>
            <a:ahLst/>
            <a:rect l="textAreaLeft" t="textAreaTop" r="textAreaRight" b="textAreaBottom"/>
            <a:pathLst>
              <a:path w="21600" h="21600">
                <a:moveTo>
                  <a:pt x="18789" y="12011"/>
                </a:moveTo>
                <a:cubicBezTo>
                  <a:pt x="18850" y="11610"/>
                  <a:pt x="18881" y="11205"/>
                  <a:pt x="18881" y="10800"/>
                </a:cubicBezTo>
                <a:cubicBezTo>
                  <a:pt x="18881" y="6336"/>
                  <a:pt x="15263" y="2719"/>
                  <a:pt x="10800" y="2719"/>
                </a:cubicBezTo>
                <a:cubicBezTo>
                  <a:pt x="7218" y="2718"/>
                  <a:pt x="4063" y="5077"/>
                  <a:pt x="3049" y="8512"/>
                </a:cubicBezTo>
                <a:lnTo>
                  <a:pt x="441" y="7742"/>
                </a:lnTo>
                <a:cubicBezTo>
                  <a:pt x="1796" y="3151"/>
                  <a:pt x="6012" y="-1"/>
                  <a:pt x="10800" y="-1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342"/>
                  <a:pt x="21559" y="11883"/>
                  <a:pt x="21477" y="12419"/>
                </a:cubicBezTo>
                <a:lnTo>
                  <a:pt x="24147" y="12824"/>
                </a:lnTo>
                <a:lnTo>
                  <a:pt x="19526" y="16229"/>
                </a:lnTo>
                <a:lnTo>
                  <a:pt x="16120" y="11607"/>
                </a:lnTo>
                <a:lnTo>
                  <a:pt x="18789" y="12011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Object 19" descr=""/>
          <p:cNvPicPr/>
          <p:nvPr/>
        </p:nvPicPr>
        <p:blipFill>
          <a:blip r:embed="rId4"/>
          <a:stretch/>
        </p:blipFill>
        <p:spPr>
          <a:xfrm flipH="1" rot="10800000">
            <a:off x="4621320" y="4443120"/>
            <a:ext cx="1861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2324160" y="0"/>
            <a:ext cx="556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8100000" blurRad="0" rotWithShape="0">
                    <a:srgbClr val="868686">
                      <a:alpha val="75000"/>
                    </a:srgbClr>
                  </a:outerShdw>
                </a:effectLst>
                <a:latin typeface="Impact"/>
              </a:rPr>
              <a:t>The Pronou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8100000" blurRad="0" rotWithShape="0">
                  <a:srgbClr val="868686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066680" y="2133720"/>
            <a:ext cx="7925040" cy="83808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The pronoun is a word used in place of one or more no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It ma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 for</a:t>
            </a: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 a person, place, thing, or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 rot="20338200">
            <a:off x="1275840" y="3215880"/>
            <a:ext cx="1729080" cy="34005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ersonal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I, me, m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, your, y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she, her, hers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it, 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we,us, our, 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y, them, their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i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my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r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2666880" y="3048120"/>
            <a:ext cx="2819520" cy="2286000"/>
          </a:xfrm>
          <a:prstGeom prst="flowChartPreparation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Indefinite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anybo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it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n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someone, one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 rot="634800">
            <a:off x="4800240" y="4800600"/>
            <a:ext cx="3733920" cy="1816200"/>
          </a:xfrm>
          <a:prstGeom prst="flowChartAlternateProcess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Interrog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 rot="4800">
            <a:off x="5484960" y="3048120"/>
            <a:ext cx="3276360" cy="1904760"/>
          </a:xfrm>
          <a:prstGeom prst="hexagon">
            <a:avLst>
              <a:gd name="adj" fmla="val 43002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Demonstr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8"/>
          <p:cNvSpPr txBox="1"/>
          <p:nvPr/>
        </p:nvSpPr>
        <p:spPr>
          <a:xfrm>
            <a:off x="1219320" y="228600"/>
            <a:ext cx="74595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Adjectiv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219320" y="2044800"/>
            <a:ext cx="380988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s or describe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 or pronou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219320" y="4021200"/>
            <a:ext cx="380988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Is that a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wool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swea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1219320" y="5149800"/>
            <a:ext cx="3809880" cy="1009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Just give me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five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minu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1219320" y="3086280"/>
            <a:ext cx="380988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Did you lose your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boo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5181480" y="2044800"/>
            <a:ext cx="381024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 thes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5181480" y="3086280"/>
            <a:ext cx="381024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5181480" y="4021200"/>
            <a:ext cx="381024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WordArt 22"/>
          <p:cNvSpPr txBox="1"/>
          <p:nvPr/>
        </p:nvSpPr>
        <p:spPr>
          <a:xfrm>
            <a:off x="5705640" y="4157640"/>
            <a:ext cx="2761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at kind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WordArt 23"/>
          <p:cNvSpPr txBox="1"/>
          <p:nvPr/>
        </p:nvSpPr>
        <p:spPr>
          <a:xfrm>
            <a:off x="5892840" y="3209760"/>
            <a:ext cx="2170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ich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WordArt 24"/>
          <p:cNvSpPr txBox="1"/>
          <p:nvPr/>
        </p:nvSpPr>
        <p:spPr>
          <a:xfrm>
            <a:off x="5229360" y="5149800"/>
            <a:ext cx="37162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How many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9" name="Picture 29" descr="AMCONFUS"/>
          <p:cNvPicPr/>
          <p:nvPr/>
        </p:nvPicPr>
        <p:blipFill>
          <a:blip r:embed="rId1"/>
          <a:stretch/>
        </p:blipFill>
        <p:spPr>
          <a:xfrm flipH="1">
            <a:off x="4419720" y="3333600"/>
            <a:ext cx="1100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9:29:04Z</dcterms:created>
  <dc:creator>John Sandorff</dc:creator>
  <dc:description/>
  <dc:language>en-US</dc:language>
  <cp:lastModifiedBy>Student</cp:lastModifiedBy>
  <cp:lastPrinted>2000-01-08T19:47:06Z</cp:lastPrinted>
  <dcterms:modified xsi:type="dcterms:W3CDTF">2012-04-23T05:57:03Z</dcterms:modified>
  <cp:revision>47</cp:revision>
  <dc:subject/>
  <dc:title>English Grammar</dc:title>
</cp:coreProperties>
</file>